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99AB-05F0-41AB-A17B-9C379FC2CDA9}"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1CAB-2A06-4DCE-9514-76D781E0988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97D8-F669-4165-AC13-8A86AB03E99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BECE-5747-400A-ACED-EDFD8B72BA5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3897-B005-425E-B824-B9E642E6D2A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445E-4645-460E-A291-7A78B5632A2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4C93-B233-41DB-BE50-131962B6027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0223-CA08-4ABB-9F33-0CD2A115C19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7E8D-3F1B-4C17-89E7-D992BD77F85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BB79-2CC8-4349-B2AA-9C6DCF95335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F51D-C22C-4B57-99F6-1A0074F68D0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D54A-2DC5-4544-8CF7-51B8DF1F159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812E-E6E8-4861-AE1C-0CCE0C14BB8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E2EB-7DD1-4E3E-8A07-EBB9F2BA701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12D4-C8DF-4546-8491-42788B5E78E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37B4-4C8A-4267-BBD9-CC12338813C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D6A1-FF83-453F-82F2-907A62818F2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DE30-9EA7-474C-A002-D8EDBAAAAF3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9EEE-171D-48D2-811B-DC96C433ACC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6A1B-2B42-4DF3-9158-77320263D7E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AFDF-5230-41E2-8FDE-E504A3F85AD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EEA2-D32C-4CDE-9039-C4EAD83C3CD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71D4-99AA-4E19-B4F6-B80B75F9E6A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E5DA-3510-4ACA-9768-61672734E85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95FF-41F1-4487-9B45-11E057DB1D0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12B8-23F5-41FF-83CA-24160E410F2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A3A3-EA93-44F7-A020-601452848E1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02DC-D8CE-493A-90A7-B856C6D164B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DBC7-FF16-4251-910D-6E3ECDA497C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7734-7EA0-4C54-AF9B-3961AE99B48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FE8F-758C-4804-864F-A8578EA4653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698C-3AB0-42C6-974E-F4B0415C384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85D3-2868-4C79-A509-419D590EA5C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CA38-3967-4E32-BF5E-BE156EE1827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88D3-2120-45CC-8AF1-3164405AF61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CD4C-FE51-48EA-80E9-B0178A7D97D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2828-11EA-4D18-9B60-6F7558094D1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BBA0-FB11-4059-BE03-1A125AF2CBF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C59D-5756-4266-AFE3-EC1FDB43258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1D41-BD61-437C-B8E3-74B213D61E5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981C-678B-4404-BDCC-06F6191353F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B330-A7C6-4795-9991-C64F8ACD516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50D0-1C60-4D8D-BE61-62B055C8819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B0CD-2D2B-477E-AEAE-A0BBC797D26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4AF6-698D-41C8-81E8-746226D62ED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9836-B464-4352-A065-8FA8F6FF196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F567-CFED-49B1-A261-DF278B2B89D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91A8-638B-46CF-A313-3065EB1D8EF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1F55-3572-49B3-AB31-D8F19103D62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FD44-A87A-40A3-B972-82F2818937B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1A76-6869-4E82-909F-58DC8059FE0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B06F-2700-4521-8DC2-C37B2AE8387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B0C5-6D4A-48E6-80BE-6B1E2F996BC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CBBD-D4CB-49FC-8CD8-707D991FC62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6010-24B2-49B4-9E5F-3DAF9FCDDA3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0DD7-DD0E-4B62-8CD7-F850CEC754B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2EAA-43A5-4C09-B931-469B372552C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3DA3-7B4E-4C1B-93DB-8B0E299A590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FDE8-E2B1-4E0A-A295-F0F3FA82098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4052-397C-4826-A059-99443EA228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FD4C5-D65C-4CA4-ACA8-156613DDF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7382B-12B0-4412-8D02-116E9BDFD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E88C6-8024-4A91-BD70-FA789DB25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0BE6F-51BE-4EC8-B818-80A43352B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48E8C-88BC-49AC-A41C-B6989A96D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C3E2E-0A48-4C82-A90A-9AD63E91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F9FB4-23FD-4368-94CD-2B77AE98F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A94E-618A-4A43-99A7-304FD6450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8A858-C93D-4486-8CF9-66676893A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23AD0-49B6-4A92-86EB-707A30AA3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C4722-A55A-47ED-AB95-237E3054C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D3BC-FD0B-4CCE-A51A-AFDBD06B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CA4D-EF2F-404C-9968-214F100A2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1E834-70DD-4726-AB12-873695709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B1AB-613A-4B45-9360-D655C158B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98217-3822-4C3F-9497-54A31F4A2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F4705-37B7-4AC0-B2F4-76BE1BF65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8FBCC-25D8-4C40-BE01-C0DE5C60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FA8F7-EDF6-414D-8642-53F21AB7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883A4-8B66-4B3D-A244-8C4BCD35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D960B-90AB-43F1-9650-57DD74F3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9BB0-B767-4EC4-B3A9-4F534D1B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47175-C3AF-439A-9379-CA5A4B0BC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F810-40C0-4370-B4C7-2F2A48EF2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E905-0A7E-4F09-8F5D-8260C6BFE8DD}"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2F3F-8D31-41EE-B475-0801DEF54888}"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nodeType="afterEffect"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nodeType="afterEffect"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nodeType="afterEffect"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nodeType="afterEffect"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nodeType="afterEffect"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nodeType="afterEffect"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nodeType="afterEffect"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nodeType="afterEffect"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nodeType="clickEffect" fill="hold">
                      <p:stCondLst>
                        <p:cond delay="0"/>
                      </p:stCondLst>
                      <p:childTnLst>
                        <p:par>
                          <p:cTn id="501" nodeType="withEffect"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nodeType="afterEffect"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nodeType="afterEffect"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nodeType="afterEffect"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nodeType="afterEffect"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nodeType="afterEffect"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nodeType="afterEffect"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nodeType="clickEffect" fill="hold">
                      <p:stCondLst>
                        <p:cond delay="0"/>
                      </p:stCondLst>
                      <p:childTnLst>
                        <p:par>
                          <p:cTn id="829" nodeType="withEffect"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nodeType="afterEffect"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nodeType="afterEffect"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nodeType="clickEffect" fill="hold">
                      <p:stCondLst>
                        <p:cond delay="0"/>
                      </p:stCondLst>
                      <p:childTnLst>
                        <p:par>
                          <p:cTn id="849" nodeType="withEffect"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nodeType="afterEffect"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nodeType="clickEffect" fill="hold">
                      <p:stCondLst>
                        <p:cond delay="0"/>
                      </p:stCondLst>
                      <p:childTnLst>
                        <p:par>
                          <p:cTn id="860" nodeType="withEffect"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nodeType="afterEffect"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nodeType="afterEffect"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nodeType="clickEffect" fill="hold">
                      <p:stCondLst>
                        <p:cond delay="0"/>
                      </p:stCondLst>
                      <p:childTnLst>
                        <p:par>
                          <p:cTn id="963" nodeType="withEffect"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nodeType="clickEffect" fill="hold">
                      <p:stCondLst>
                        <p:cond delay="0"/>
                      </p:stCondLst>
                      <p:childTnLst>
                        <p:par>
                          <p:cTn id="993" nodeType="withEffect"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nodeType="afterEffect"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nodeType="afterEffect"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nodeType="afterEffect"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nodeType="afterEffect"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dc:language>en-US</dc:language>
  <cp:lastModifiedBy>Negrea Carmen</cp:lastModifiedBy>
  <dcterms:modified xsi:type="dcterms:W3CDTF">2013-01-14T07:57:39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